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154-4512-4917-AB79-8F39BCF0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65E-0025-44B2-9553-C68415ED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36D-1B7A-4CB8-940A-DC3AAEAA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E1E-F8A8-40A8-90B9-6B2EC0A2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BF2-6CC4-48CB-AA2B-82DC9E3B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8EC-5F8C-4A60-9A59-4168E8BD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8BC-BA00-4ECD-B3E0-2DBDB056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EB83-2897-49C8-AEBB-9E34F774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B24-1E7E-45B8-B301-112FD41B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C60C-03AA-46FF-9C1E-667ED1A8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A59-DB2F-49B0-B64E-BDE77BAC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E45-7552-4545-8B9C-CD78F3B6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EA33-0271-4820-B657-02B9FF8898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7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Звіт </a:t>
            </a:r>
            <a:br>
              <a:rPr sz="40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о виконання заходів </a:t>
            </a: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Програми благоустрою та розвитку комунального господарства міста Житомира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 2022 рі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еконструкція районної котельні РК-10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за адресою: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пров. 1-й Винокурний, 36-а м. Житомир,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шляхом встановлення термодинамічної установки органічного циклу Ренкіна (паливо-тріска деревини) – підвищення ступеню автоматизації та заміна окремих одиниць технологічного обладнання існуючої газової котельні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становлення твердопаливної (деревина) установки з комбінованого виробництва тепла та електроенергії (КУ): КУ з органічним циклом Ренкіна" з потужністю до 1,2 МВт електричної та 7,1 МВт теплової енергії на території РК-10 (пров. 1-й Винокурний, 36а)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48036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оєкт з енергоефективності у м. Житомирі за фінансування державним секретаріатом з економічних питань Швейцарської Конфедерації (СЕКО)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роведено міжнародні тендерні процедури з будівництва теплоелектроцентралі (ТЕЦ) на території  районній котельні №11 (РК-11). 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аливо – тріска деревини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тановлена планова потужніст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МВт електричної та 8 МВт теплової енергії.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7128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КП “Зеленбуд” ЖМ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1268280"/>
          <a:ext cx="8229600" cy="5045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и робі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иниця вимі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ільк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ізано аварійних дере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ізано дерев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ято  омели  з  дерев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е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ізано дерев пошкоджених омелою більше 60%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квідовано буреломів                   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е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чування пн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ження пнів                          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везено сміття та гілля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.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аджено дере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аджено кущ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аджено квіт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1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ижка кущ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шено  газон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808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бування лав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3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аштування лав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бування сталевих тру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7,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бування дерев’яних поверхо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6,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бування огорож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бування урн та контейнер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бування квіткових ваз вапняними суміш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аштування покриття з кам’яних пл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сц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ів газо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ешкодження амброзії та борщівн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КП «СККПО» ЖМ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112536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Викошено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157,7 га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порослі, кущів та трави на кладовищах міста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Зібрано та вивезено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17 290 куб. м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порослі, сміття з кладовищ міст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Зрізано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305 шт.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аварійних дерев (з них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142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шт. власними силами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Виготовлено та встановлено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275 шт.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попереджувальних наклейок, інформаційних табличок на кладовищах містах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Висаджено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33 шт.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зелених насаджень (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33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шт.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сосен ) на Корбутівському кладовищі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Пофарбовано олійною фарбою –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 731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,5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м²,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вапном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– 2 236,0 м²,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цементом –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1 190 м²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, водоемульсійною фарбою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– 408,4м²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об’єктів благоустрою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Ремонт  входу на Смолянському військовому кладовищі (улаштування фундаменту та облицювання гранітними плитами, облицювання стін декоративною цеглою)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Поточний ремонт майданчика «Ритуал» на Смолянському військовому кладовищі (корчування пнів, перенесення та установка металевого навісу, улаштування покриття з тротуарної плитки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Влаштовано прапори з флагштоками на Смолянському військовому кладовищі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110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шт.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Замінено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29 прапорів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на флаштоках військових могил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Ремонт майданчика «Ритуал»  Корбутівського кладовища ( укладання тротуарної плитки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Встановлення та відновлення  повалених пам’ятників на Російсько-Вільському цивільному кладовищі –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85 шт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Ремонт огорожі на Смолянському військовому кладовищі –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84,5 м.п.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(фундамент, мурування бутом, стовпи з цегли, укладання плит парапетних, плит огорожі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Ремонт огорожі на Смоківському кладовиші –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51,8 м.п.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(мурування бутом, стовпи з цегли, укладання плит парапетних, плит огорожі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КП “ЕШС” ЖМ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ідремонтовано зливоприймальних решіток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– 218 шт.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а колодязів -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263 ш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ито зливоприймальних решіток –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72 шт.,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лодязів -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149 ш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мито мереж зливової каналізації -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55 км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., з них на прибудинковій території –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37,5 к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чищено зливоприймальних решіток –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423 шт.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а колодязів -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396 ш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арбування мостів, шляхопроводів та штучних споруд –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3788 м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ведено очищення від сміття та порослі з частковим поглибленням дренажних канав по вул.  Смолянська площа,         Ів. Гонти , Новогоголівська,  Параджанова, Зайка, Крошенська, Піщана, Звягільська, Троянівська, ІІІ-й Каховський, пров. Смолянський, Вільський шлях, Т.Б.Боровця, Труда, Офіцерська, Індустріальна, Цегельна, Танкістів, Осокоровий –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4700 м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конані роботи по ремонту колесо відбійного, перильного огороджень –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566 м.п.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становлення нового колесо відбійного огородження по вул. Героїв Базару, Героїв Пожежних –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60 м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явлено та ліквідовано (з складанням протоколів) несанкціонованих підключень каналізаційних стоків від приватних будівель з потраплянням до річок міста по вулицях: Кармелюка, Шевченка, Вокзальна, Пр,Миру, 3-й Чуднівський, С.Наливайка, С.Параджанова, Гер.Базару, Вітрука, Саєнка, пров.Тютюновий,  М.Бердичівська, пров. І-й Марянівський,       2-й пров. Далекий, худ-ка Канцерова -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28 ш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конання робіт по розчистці русел та прибережних смуг річок Тетерів, Кам’янка, Лісова, Путятинка, Крошенка, Руданка та санітарне утримання пам’яток природи «Голови Чацького, Чотири Брати» -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238,1 тис.м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КП “ЕМЗО “Міськсвітло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о поточному ремонту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міна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дротів та розтяжо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17,57 км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міна опор – </a:t>
            </a: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ш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заміна ліхтарів </a:t>
            </a: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– 702 ш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заміна кронштейнів – </a:t>
            </a: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323 ш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відремонтовано пунктів живлення – </a:t>
            </a: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41 ш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проведено роботи по відновленню ліній з/о після обривів, заміні ПРА, патронів, розчищенн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трас від гілок, фарбування опор, натяг провисаючої повітряної лінії, ліквідування пошкоджень, визначення коротких замикань, встановлення ОПН та монтаж заземлення, заміна та встановлення електролічильників в пунктах живлення, перевірка та наладка оперативно-диспетчерського обладнання та інші робот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о утриманню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замін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амп світильників </a:t>
            </a: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– 79 ш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гляд та обслуговування світильників – </a:t>
            </a: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7 424 ш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едено роботи по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розфазуванню світильників, техогляду пунктів живлення, автовимикачів та контакторів шаф освітлення, перевірки стану та роботи електролічильника шафи освітлення, роботи аварійно-диспетчерської груп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 інші робо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КП «Інспекція з благоустрою            м. Житомира» ЖМР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емонтаж спеціальних конструкцій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іоски – 1 ш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анери – 28 ш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віски - 1 ш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Рекламні засоби (таблички та інше) – 2353 ш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ріплення рекламних засобів – 3 ш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Торгівельне обладнання з продажу води – 3 ш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КП «Житомирводоканал» ЖМ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Реконструкція водопроводу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ід перетину вул. Олени Теліги з вул. Каховська, вздовж вул. Каховської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ез р. Кам’янка, вздовж 1-го пров. Короленка, через вул. Короленка, вздовж 2-го Колективного провулку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о вул. Новосінна, 2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4032000" cy="41054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tretch/>
        </p:blipFill>
        <p:spPr>
          <a:xfrm>
            <a:off x="4788000" y="2492280"/>
            <a:ext cx="38527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ідремонтовано та замінено –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26 пожежних гідранти,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що були в неробочому стані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Санация трубопроводов методом &quot;чулка&quot; без разрушения старых ..."/>
          <p:cNvPicPr/>
          <p:nvPr/>
        </p:nvPicPr>
        <p:blipFill>
          <a:blip r:embed="rId1"/>
          <a:stretch/>
        </p:blipFill>
        <p:spPr>
          <a:xfrm>
            <a:off x="179280" y="1700280"/>
            <a:ext cx="4537080" cy="41385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6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роведено роботи з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міни аварійних трубопроводів холодного водопостачання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3,355 к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003560" cy="2486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https://www.zhitomir.info/f/images/2018/10/09/178270/34fa0478962fef4b3433a71e0b1be074_w859_h569.jpg"/>
          <p:cNvPicPr/>
          <p:nvPr/>
        </p:nvPicPr>
        <p:blipFill>
          <a:blip r:embed="rId2"/>
          <a:stretch/>
        </p:blipFill>
        <p:spPr>
          <a:xfrm>
            <a:off x="4356000" y="2276640"/>
            <a:ext cx="450072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Замінено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1,2 км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водопровідних уводів до багатоповерхових будинків.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20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становлено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377 од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засобів комерційного обліку холодної води у побутових споживачів та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12 у юридичних осіб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E:\Лічильник води.jpg"/>
          <p:cNvPicPr/>
          <p:nvPr/>
        </p:nvPicPr>
        <p:blipFill>
          <a:blip r:embed="rId1"/>
          <a:stretch/>
        </p:blipFill>
        <p:spPr>
          <a:xfrm>
            <a:off x="1116000" y="1989000"/>
            <a:ext cx="7343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Замінено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146  люків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на оглядових колодязях інженерних мереж централізованого водопостач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До                                                                       піс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5" descr="C:\Users\Admin1\Desktop\137774f9-962d-4821-b8a7-c4763e10d8a6-799x600.jpg"/>
          <p:cNvPicPr/>
          <p:nvPr/>
        </p:nvPicPr>
        <p:blipFill>
          <a:blip r:embed="rId1"/>
          <a:stretch/>
        </p:blipFill>
        <p:spPr>
          <a:xfrm>
            <a:off x="179280" y="2276640"/>
            <a:ext cx="4176720" cy="3995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https://forpost.media/wp-content/uploads/2021/06/c0efdd57b45260688c23f67ca0937cb0.jpg"/>
          <p:cNvPicPr/>
          <p:nvPr/>
        </p:nvPicPr>
        <p:blipFill>
          <a:blip r:embed="rId2"/>
          <a:stretch/>
        </p:blipFill>
        <p:spPr>
          <a:xfrm>
            <a:off x="4500720" y="2276640"/>
            <a:ext cx="43192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КП «Житомиртеплокомуненерго» ЖМР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иконано заміну аварійних теплових мереж в поліуретановій ізоляції  </a:t>
            </a: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4,9 км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у двотрубному вимірі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ул. Пушкінськ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ул. Князів Острозьких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пров. Телефонний,2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ул. Гоголівська, 3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ул. Київська, 82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просп. Миру,6 – 12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пров. Прорізний, 72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ул. Вільський Шлях, 15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пров. 2-й Житній,6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4356000" y="2637000"/>
            <a:ext cx="4500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Технічне переоснащення теплових вузлів шляхом встановлення індивідуальних теплових пунктів (ІТП) в будинках, що підключені до котелень РК-10, РК-6, РК-11.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29 одиниць.</a:t>
            </a:r>
            <a:br>
              <a:rPr sz="24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До                                                                    піс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4464000" cy="34066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430056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0T09:44:05Z</dcterms:created>
  <dc:creator>Пользователь Windows</dc:creator>
  <dc:description/>
  <dc:language>en-US</dc:language>
  <cp:lastModifiedBy>Пользователь Windows</cp:lastModifiedBy>
  <dcterms:modified xsi:type="dcterms:W3CDTF">2023-01-12T07:54:53Z</dcterms:modified>
  <cp:revision>22</cp:revision>
  <dc:subject/>
  <dc:title>Звіт  про виконання заходів</dc:title>
</cp:coreProperties>
</file>