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70689-97FF-4077-80C9-CC2A8EB6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EDF7-4536-4F29-93FC-8C63B429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C318-4539-452C-88DA-8F7C4EEF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2CA70-5309-4745-A17E-BAAD7796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8954-F725-4D9E-9113-B4054A55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B377-A509-4739-9A58-B73D8200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7C03-B472-4D38-B9FB-627D674D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C527-6243-405E-B6E6-D993042E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8D2B-DD6E-4489-80D5-9227C49C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30F4-09C9-4700-9029-C21EB910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7B53-13ED-4AB2-A81B-91F43749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2DCB-294F-47E5-AD57-9C5202E1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5F11-815A-4533-BC8D-FE5B176D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B5D0-2F7D-4B6F-B2C1-4D60E791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03A3-B244-4BD2-B75A-B22F4BFE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A293-FF70-4FEE-A1CA-E056C99B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1EC4-0F2E-4498-82BB-4E62C171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1A5ED-4DAF-4219-B513-EAB6E737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1629-6C27-49E4-AE95-BB0AB59C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406E-CAAF-474B-A773-F113F942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2E21-3F25-4CE3-9F0F-6856C93B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9C4CE-DC02-4B29-ADBE-2F02FD17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0DFC3-F921-442C-86A9-A91E9C72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92168-73F8-424E-B742-2975EF30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16EA-61B5-4A87-9A93-E87716905412}" type="slidenum">
              <a:rPr b="0" lang="uk-U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EB91-3BDD-4813-A855-BCD18FAB601E}" type="slidenum">
              <a:rPr b="0" lang="uk-U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163000" y="0"/>
            <a:ext cx="981000" cy="1380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-181080" y="1517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332000" y="2473200"/>
            <a:ext cx="86295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uk-UA" sz="2500" spc="-1" strike="noStrike">
                <a:solidFill>
                  <a:srgbClr val="ffffff"/>
                </a:solidFill>
                <a:latin typeface="Arial"/>
              </a:rPr>
              <a:t>Про роботу Центру наданн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ffffff"/>
                </a:solidFill>
                <a:latin typeface="Arial"/>
              </a:rPr>
              <a:t>адміністративних послуг міської рад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ffffff"/>
                </a:solidFill>
                <a:latin typeface="Arial"/>
              </a:rPr>
              <a:t>за 2022 рі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372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3300" spc="-1" strike="noStrike">
                <a:solidFill>
                  <a:srgbClr val="000000"/>
                </a:solidFill>
                <a:latin typeface="Arial"/>
              </a:rPr>
              <a:t>Адміністративні послуги, </a:t>
            </a:r>
            <a:br>
              <a:rPr sz="3300"/>
            </a:br>
            <a:r>
              <a:rPr b="1" lang="uk-UA" sz="3300" spc="-1" strike="noStrike">
                <a:solidFill>
                  <a:srgbClr val="000000"/>
                </a:solidFill>
                <a:latin typeface="Arial"/>
              </a:rPr>
              <a:t>що надаються через </a:t>
            </a:r>
            <a:br>
              <a:rPr sz="3300"/>
            </a:br>
            <a:r>
              <a:rPr b="1" lang="uk-UA" sz="3300" spc="-1" strike="noStrike">
                <a:solidFill>
                  <a:srgbClr val="000000"/>
                </a:solidFill>
                <a:latin typeface="Arial"/>
              </a:rPr>
              <a:t>ЦНАП міської ради, в т.ч. через «Прозорий офіс»:</a:t>
            </a:r>
            <a:br>
              <a:rPr sz="3300"/>
            </a:br>
            <a:br>
              <a:rPr sz="1100"/>
            </a:br>
            <a:r>
              <a:rPr b="1" lang="uk-UA" sz="3300" spc="-1" strike="noStrike">
                <a:solidFill>
                  <a:srgbClr val="666699"/>
                </a:solidFill>
                <a:latin typeface="Arial"/>
              </a:rPr>
              <a:t> - міської ради та її виконавчих органів </a:t>
            </a:r>
            <a:br>
              <a:rPr sz="3300"/>
            </a:br>
            <a:r>
              <a:rPr b="1" lang="uk-UA" sz="3300" spc="-1" strike="noStrike">
                <a:solidFill>
                  <a:srgbClr val="666699"/>
                </a:solidFill>
                <a:latin typeface="Arial"/>
              </a:rPr>
              <a:t>- облдержадміністрації </a:t>
            </a:r>
            <a:br>
              <a:rPr sz="3300"/>
            </a:br>
            <a:r>
              <a:rPr b="1" lang="uk-UA" sz="3300" spc="-1" strike="noStrike">
                <a:solidFill>
                  <a:srgbClr val="666699"/>
                </a:solidFill>
                <a:latin typeface="Arial"/>
              </a:rPr>
              <a:t>- центральних органів виконавчої влади (тер. підрозділів) </a:t>
            </a:r>
            <a:br>
              <a:rPr sz="3300"/>
            </a:br>
            <a:r>
              <a:rPr b="1" lang="uk-UA" sz="3300" spc="-1" strike="noStrike">
                <a:solidFill>
                  <a:srgbClr val="000000"/>
                </a:solidFill>
                <a:latin typeface="Arial"/>
              </a:rPr>
              <a:t>Всього: 452 послуги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8163000" y="0"/>
            <a:ext cx="98100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рівняльний аналіз кількості зареєстрованих звернен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дміністраторами за 2020-2022 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Chart 1"/>
          <p:cNvGraphicFramePr/>
          <p:nvPr/>
        </p:nvGraphicFramePr>
        <p:xfrm>
          <a:off x="1171440" y="1986120"/>
          <a:ext cx="6801120" cy="446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986120"/>
                    <a:ext cx="680112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190440"/>
            <a:ext cx="84963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Структура звернень до ЦНАП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6" descr=""/>
          <p:cNvPicPr/>
          <p:nvPr/>
        </p:nvPicPr>
        <p:blipFill>
          <a:blip r:embed="rId1"/>
          <a:srcRect l="37496" t="33356" r="36820" b="28165"/>
          <a:stretch/>
        </p:blipFill>
        <p:spPr>
          <a:xfrm>
            <a:off x="1692360" y="1736640"/>
            <a:ext cx="527508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іністраторами ЦНАП у 2022 році успішно пройдено іспити та отримано доступ до Державного земельного кадастру, що дозволяє формувати витяги з Державного земельного кадастру адміністраторами центру та одразу видавати замовник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4" descr=""/>
          <p:cNvPicPr/>
          <p:nvPr/>
        </p:nvPicPr>
        <p:blipFill>
          <a:blip r:embed="rId1"/>
          <a:stretch/>
        </p:blipFill>
        <p:spPr>
          <a:xfrm>
            <a:off x="604800" y="2365200"/>
            <a:ext cx="80964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іністратори ЦНАП забезпечують прийняття інформаційних повідомлень через Портал ДІЯ від громадян України, які є власниками пошкодженого або знищеного нерухомого майна внаслідок бойових дій, терористичних актів, диверсій, спричинених військовою агресією Російської Федерації, з моменту введення воєнного стану Указом Президента України від 24 лютого 2022 р.               № 64 "Про введення воєнного стану в Україні«</a:t>
            </a:r>
            <a:br>
              <a:rPr sz="1800"/>
            </a:br>
            <a:br>
              <a:rPr sz="1800"/>
            </a:b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2022 році адміністраторами було прийнято 143 повідомл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У випадку пошкодження майна під час війни подавайте заявки в застосунку Дія  | Краматорська міська рада"/>
          <p:cNvPicPr/>
          <p:nvPr/>
        </p:nvPicPr>
        <p:blipFill>
          <a:blip r:embed="rId1"/>
          <a:stretch/>
        </p:blipFill>
        <p:spPr>
          <a:xfrm>
            <a:off x="1655640" y="2997360"/>
            <a:ext cx="5832720" cy="32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1:53:22Z</dcterms:created>
  <dc:creator>Олег</dc:creator>
  <dc:description/>
  <dc:language>en-US</dc:language>
  <cp:lastModifiedBy>Suzanna</cp:lastModifiedBy>
  <dcterms:modified xsi:type="dcterms:W3CDTF">2023-01-12T09:13:17Z</dcterms:modified>
  <cp:revision>136</cp:revision>
  <dc:subject/>
  <dc:title>Слайд 1</dc:title>
</cp:coreProperties>
</file>