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B420-156D-4775-B1D3-BE86E60A3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1114-5BA8-49CB-B207-6701C7D6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DB15-C3C4-4878-BD8B-D5F9C3F3E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E59F-079D-4E1D-833A-DB3FC334F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4570-BD44-488C-9535-C46D90C6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7D35-E1F4-4861-AC4F-62C0C072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12C9-B715-46FC-89C3-214C26DE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F8D2-AEC8-484B-9579-D52409E1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C413-9FFD-474F-85BC-34E07108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1146-BEFC-40DE-B7A0-16310A95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D321-2CD9-4456-8095-F035D135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E536-0FE3-4532-92B3-E009B9B4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EA77-3FF9-4E1C-BF39-894D7A5EC8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468360" y="2276640"/>
            <a:ext cx="8229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omic Sans MS"/>
              </a:rPr>
              <a:t>Звіт про робот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omic Sans MS"/>
              </a:rPr>
              <a:t>Муніципальної інспекції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omic Sans MS"/>
              </a:rPr>
              <a:t>За 2021 рі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1"/>
          <p:cNvSpPr/>
          <p:nvPr/>
        </p:nvSpPr>
        <p:spPr>
          <a:xfrm>
            <a:off x="897840" y="476280"/>
            <a:ext cx="737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Comic Sans MS"/>
              </a:rPr>
              <a:t>Житомирська міська рад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611280" y="404280"/>
            <a:ext cx="792144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іципальна інспекція діє відповідно до Положення, яке затверджене рішенням Житомирської міської ради від 25.03.2021 № 9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ою діяльності інспекції є здійснення контролю за станом благоустрою у м. Житомирі, дотриманням природоохоронного законодавства та виконання робіт, пов’язаних з порушенням благоустрою, дотримання законодавства у сфері зовнішньої реклами, торгівлі, а також контроль за дотримання Правил дорожнього руху в частині зупинки та стоянки транспортних засобі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115560"/>
            <a:ext cx="8134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Штатна структура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уніципальної інспекції Житомирської міської ради на 2021 рі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50560" y="1700280"/>
            <a:ext cx="8713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гальна кількість працівників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8, з них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начальни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заступни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– провідних спеціаліс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– спеціалістів 1-ї категорі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– спеціалістів 1-ї категорії – інспекторів з паркуван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старший інспектор з діловод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 напрямках діяльності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– контроль у сфері благоустрою на дільниця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контроль у сфері розміщення тимчасових споруд, об'єктів зовнішньої рекл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– контроль у сфері паркування транспортних засобі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Заголовок 2"/>
          <p:cNvSpPr/>
          <p:nvPr/>
        </p:nvSpPr>
        <p:spPr>
          <a:xfrm>
            <a:off x="34920" y="115920"/>
            <a:ext cx="910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арта розподілу території між спеціаліс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2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028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-324000" y="1343160"/>
          <a:ext cx="9259920" cy="581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00" y="1343160"/>
                    <a:ext cx="925992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Rectangle 3"/>
          <p:cNvSpPr/>
          <p:nvPr/>
        </p:nvSpPr>
        <p:spPr>
          <a:xfrm>
            <a:off x="395280" y="620640"/>
            <a:ext cx="83739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Протоколи муніципальної інспекції за видами правопорушень за 2021 рі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Всього - 12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57240" y="1001880"/>
          <a:ext cx="9283680" cy="582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1001880"/>
                    <a:ext cx="928368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Rectangle 3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Приписи муніципальної інспекції за видами правопорушень за 2021 рі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Всього - 21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633240" y="1846440"/>
          <a:ext cx="8379000" cy="4879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3240" y="1846440"/>
                    <a:ext cx="8379000" cy="48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3"/>
          <p:cNvSpPr/>
          <p:nvPr/>
        </p:nvSpPr>
        <p:spPr>
          <a:xfrm>
            <a:off x="457200" y="274680"/>
            <a:ext cx="8362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Кількість розглянутих протоколів </a:t>
            </a: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адміністративною комісією при виконкомі Житомирської міської ради за 2021 рі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Всього – 125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1001880" y="1700280"/>
          <a:ext cx="9407520" cy="489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1880" y="1700280"/>
                    <a:ext cx="9407520" cy="48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Rectangle 3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Сума накладених штрафних санкцій </a:t>
            </a: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адміністративною комісією при виконкомі Житомирської міської ради за 2021 рі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Всього – 772 327 гр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3"/>
          <p:cNvSpPr/>
          <p:nvPr/>
        </p:nvSpPr>
        <p:spPr>
          <a:xfrm>
            <a:off x="766800" y="549360"/>
            <a:ext cx="761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Звіт по роботі інспекторів з паркув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За період з 09.06.2021 року по 31.12.2021ро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163520" y="2060640"/>
          <a:ext cx="7275600" cy="3287520"/>
        </p:xfrm>
        <a:graphic>
          <a:graphicData uri="http://schemas.openxmlformats.org/drawingml/2006/table">
            <a:tbl>
              <a:tblPr/>
              <a:tblGrid>
                <a:gridCol w="630360"/>
                <a:gridCol w="3695760"/>
                <a:gridCol w="1546200"/>
                <a:gridCol w="1403280"/>
              </a:tblGrid>
              <a:tr h="706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ількі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а, гр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096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ього фіксаці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959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96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лати в т. ч.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93548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32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дентифікова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1875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96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ідентифікова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673,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96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ідсоток оплачених постанов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9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ількість сформованих поста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08:03:18Z</dcterms:created>
  <dc:creator>Гайова</dc:creator>
  <dc:description/>
  <dc:language>en-US</dc:language>
  <cp:lastModifiedBy>adm</cp:lastModifiedBy>
  <cp:lastPrinted>2018-02-09T07:23:27Z</cp:lastPrinted>
  <dcterms:modified xsi:type="dcterms:W3CDTF">2022-01-24T11:49:19Z</dcterms:modified>
  <cp:revision>241</cp:revision>
  <dc:subject/>
  <dc:title>Слайд 1</dc:title>
</cp:coreProperties>
</file>