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1A12-8DE4-4BB8-8EDE-537AE85AD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3F24-506D-433C-9F8A-D765DCEC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A828-3C9D-4290-9012-9ECF0B598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6BCD-74EA-46EC-812D-C89954976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8E53-EDF5-4302-9447-9BC68A1F0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50D2-295B-40F6-9028-9D03916D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E655A-8166-4C26-8F3B-2BBE86ED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1EA3-544D-4658-A69C-F80DD13F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7CE1-6295-4A1F-ADAC-09D40B0B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3368D-E02F-4536-97AC-E48099B8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B5C8-79CF-44C3-B204-5FEA0A80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BCD5-5D8E-486A-88CD-CAD82E1F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82A2-6FDC-4DEE-AEE6-77C54348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39513-1B13-4ADE-9DA9-759FE690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4CCBC-5B7B-4BEF-BF4B-8BC1EC87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85F9-C1DB-4DAF-BF54-579D6A9D6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3A4C-1B62-4884-A919-FC0834F9C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A4B57-CDA0-45F7-A807-5C1FD46D3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2B79D-F2C6-4914-A524-304C0358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A3765-F166-4A50-96CB-0C3D1887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A40D2-0D9C-4008-A6CC-1CB84C88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88C17-7078-4C61-A712-C2AE0A05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E045-8105-4E17-B9CE-2AEE1422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BC160-1954-4CE2-B5E2-2A63C37B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1B76E-0873-4F15-AAB7-1A1FC948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089CE-B896-4094-81FE-9155CF13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5B273-E610-4FCB-BD5E-92A0426C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C2426-5D5F-4C3C-B2B6-4559BE58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2F217-D11A-4F52-AC4D-AF10F177C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8C35A-F8B3-435C-85B7-19D14F204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7731E-62A6-4A18-B9B4-F08ACC31E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436F7-9122-4BDA-8723-E3125CD0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5E873-FA47-41CB-8795-7ED4166D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7FBE-5085-4998-87A9-4D0BDDF5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5B2F4-9E01-4C16-8076-B82647F2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F1268-E87B-4458-BED9-BE56840E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C72D5-B072-494A-836D-BE86E9F6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4D349-8C4D-478C-A209-842982F6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9FFF5-1965-4BE5-B215-97A28CBA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611BC-8671-40FA-B105-CD92AAFD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A381B-F780-4CB7-A4CE-96D28950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BE7E6-83C7-48C7-A618-34D57E300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020F9-2481-4B2E-BD7F-8D7509AB6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B97E-CC22-469D-9DF4-77C1925F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934D-2A53-426C-B160-E5F0DA95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D9B4-892F-4A91-B030-88182781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DD69-E523-4E4C-9951-433FA6EA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18B0-F744-4DAB-BEC5-2FE9FB39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C43D-998B-4B53-A9FC-849163338D24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0925-EB39-46C4-96BF-E0D94E189F3C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0EEA-A0F6-4B4B-B362-83F8ABE63A69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24D5-7EB7-43C6-8FE4-12EC28FDDCA4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3"/>
          <p:cNvSpPr/>
          <p:nvPr/>
        </p:nvSpPr>
        <p:spPr>
          <a:xfrm>
            <a:off x="468360" y="2276640"/>
            <a:ext cx="82296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486113"/>
                </a:solidFill>
                <a:latin typeface="Comic Sans MS"/>
              </a:rPr>
              <a:t>Звіт про робот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486113"/>
                </a:solidFill>
                <a:latin typeface="Comic Sans MS"/>
              </a:rPr>
              <a:t>Муніципальної інспекці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486113"/>
                </a:solidFill>
                <a:latin typeface="Comic Sans MS"/>
              </a:rPr>
              <a:t>Житомирської міської рад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486113"/>
                </a:solidFill>
                <a:latin typeface="Comic Sans MS"/>
              </a:rPr>
              <a:t>за 2022 рі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3"/>
          <p:cNvSpPr/>
          <p:nvPr/>
        </p:nvSpPr>
        <p:spPr>
          <a:xfrm>
            <a:off x="468360" y="2276640"/>
            <a:ext cx="82296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1"/>
          <p:cNvSpPr/>
          <p:nvPr/>
        </p:nvSpPr>
        <p:spPr>
          <a:xfrm>
            <a:off x="395280" y="1125360"/>
            <a:ext cx="7416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86113"/>
                </a:solidFill>
                <a:latin typeface="Comic Sans MS"/>
              </a:rPr>
              <a:t>До скла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86113"/>
                </a:solidFill>
                <a:latin typeface="Comic Sans MS"/>
              </a:rPr>
              <a:t>муніципальної інспекції входя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c911d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c911d"/>
                </a:solidFill>
                <a:latin typeface="Comic Sans MS"/>
              </a:rPr>
              <a:t>Сектор з питань благоустро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c911d"/>
                </a:solidFill>
                <a:latin typeface="Comic Sans MS"/>
              </a:rPr>
              <a:t>2. Сектор контролю за паркуванн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c911d"/>
                </a:solidFill>
                <a:latin typeface="Comic Sans MS"/>
              </a:rPr>
              <a:t>3. Сектор підготовки адміністративних постанов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468360" y="2276640"/>
            <a:ext cx="82296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1"/>
          <p:cNvSpPr/>
          <p:nvPr/>
        </p:nvSpPr>
        <p:spPr>
          <a:xfrm>
            <a:off x="395280" y="549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86113"/>
                </a:solidFill>
                <a:latin typeface="Comic Sans MS"/>
              </a:rPr>
              <a:t>Завдання інспекції у сфері благоустро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358920" y="1229760"/>
            <a:ext cx="6984720" cy="493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2a5010"/>
                </a:solidFill>
                <a:latin typeface="Times New Roman"/>
                <a:ea typeface="SimSun"/>
              </a:rPr>
              <a:t> </a:t>
            </a:r>
            <a:r>
              <a:rPr b="1" i="1" lang="uk-UA" sz="1200" spc="-1" strike="noStrike">
                <a:solidFill>
                  <a:srgbClr val="2a5010"/>
                </a:solidFill>
                <a:latin typeface="Times New Roman"/>
                <a:ea typeface="SimSun"/>
              </a:rPr>
              <a:t>- </a:t>
            </a: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SimSun"/>
              </a:rPr>
              <a:t>здійснення контролю за дотриманням діючого законодавства про благоустрій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SimSun"/>
              </a:rPr>
              <a:t>   </a:t>
            </a: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SimSun"/>
              </a:rPr>
              <a:t>населених пункті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SimSun"/>
              </a:rPr>
              <a:t>здійснення контролю в сфері незаконної торгівлі на вулицях міста, в тому числі незаконної торгівлі з рук у невстановлених для цього місцях, в межах повноважен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SimSun"/>
              </a:rPr>
              <a:t>проведення роз’яснювальних та інформаційних заходів з метою </a:t>
            </a:r>
            <a:r>
              <a:rPr b="1" i="1" lang="ru-RU" sz="1400" spc="-1" strike="noStrike">
                <a:solidFill>
                  <a:srgbClr val="2a5010"/>
                </a:solidFill>
                <a:latin typeface="Times New Roman"/>
                <a:ea typeface="SimSun"/>
              </a:rPr>
              <a:t>створення умов для реалізації прав та виконання обов’язків суб’єктами  у  сфері  благоустрою  населених  пунктів</a:t>
            </a: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SimSu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SimSun"/>
              </a:rPr>
              <a:t>здійснення профілактичних заходів з метою запобігання правопорушенням в сфері благоустрою, торгівлі, зовнішньої реклами тощо</a:t>
            </a: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华文新魏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华文新魏"/>
              </a:rPr>
              <a:t>здійснення контролю за виданими паспортами прив’язки на тимчасові споруди відповідності умовам видачі та схемі розміщення тимчасової споруд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华文新魏"/>
              </a:rPr>
              <a:t>організація виконання рішень Житомирської міської ради, її виконавчого комітету, направлених на виникнення, зміну або припинення прав та обов’язків суб’єктів господарювання та фізичних осіб в сфері благоустрою міста, зовнішньої реклами, незаконної торгівлі в межах повноважень тощ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华文新魏"/>
              </a:rPr>
              <a:t>надання консультативної допомоги юридичним та фізичним особам в межах компетенції Інспекції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华文新魏"/>
              </a:rPr>
              <a:t>здійснення розгляду звернень громадян та прийом громадян з питань, що відносяться до повноважень тощ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5010"/>
                </a:solidFill>
                <a:latin typeface="Times New Roman"/>
                <a:ea typeface="华文新魏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1"/>
          <p:cNvSpPr/>
          <p:nvPr/>
        </p:nvSpPr>
        <p:spPr>
          <a:xfrm>
            <a:off x="611280" y="333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86113"/>
                </a:solidFill>
                <a:latin typeface="Comic Sans MS"/>
                <a:ea typeface="Times New Roman"/>
              </a:rPr>
              <a:t>Завдання у сфері паркуванн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396720" y="1185840"/>
            <a:ext cx="6912000" cy="473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marL="285840" indent="-285840"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контроль за дотриманням законодавства в сфері паркування транспортних засобів та їх тимчасового затримання у м. Житомирі (Правил паркування транспортних засобів, Правил дорожнього руху та інших нормативно-правових актів, що регулюють сферу паркування транспортних засобів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проведення профілактичних заходів щодо недопущення  вчинення правопорушень в сфері паркування транспортних засобі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притягнення винних осіб до відповідальності за порушення законодавства в сфері паркування транспортних засобів у м. Житомирі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</a:t>
            </a: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розробка та внесення пропозицій щодо формування державної політики з питань контролю за дотримання законодавства про організацію паркування транспортних засобів і безпеки дорожнього рух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SimSun"/>
              </a:rPr>
              <a:t>складання постанов про адміністративні правопорушення щодо порушень, розгляд яких належить до компетенції Інспекції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SimSun"/>
              </a:rPr>
              <a:t>фіксування правопорушень та прийняття рішень щодо притягнення до адміністративної відповідальності осіб, які вчиняють правопорушення в сфері паркування транспортних засобів тощ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2a5010"/>
                </a:solidFill>
                <a:latin typeface="Times New Roman"/>
                <a:ea typeface="SimSu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468360" y="2276640"/>
            <a:ext cx="82296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1"/>
          <p:cNvSpPr/>
          <p:nvPr/>
        </p:nvSpPr>
        <p:spPr>
          <a:xfrm>
            <a:off x="324000" y="404640"/>
            <a:ext cx="71276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86113"/>
                </a:solidFill>
                <a:latin typeface="Comic Sans MS"/>
              </a:rPr>
              <a:t>Показники діяльності муніципальної інспекції у 2022 році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Прийнято документів (заяви, скарги, листи, повідомлення) – 1861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Зареєстровано вихідних документів інспекції  - 9314, в тому числі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щодо направлення постанов про накладення адміністративних стягнень – 5717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</a:t>
            </a:r>
            <a:r>
              <a:rPr b="1" i="1" lang="uk-UA" sz="18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щодо направлення постанов про накладення адміністративних стягнень для примусового виконання – 302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Object 2"/>
          <p:cNvGraphicFramePr/>
          <p:nvPr/>
        </p:nvGraphicFramePr>
        <p:xfrm>
          <a:off x="0" y="1217520"/>
          <a:ext cx="9290160" cy="582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7520"/>
                    <a:ext cx="929016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Rectangle 3"/>
          <p:cNvSpPr/>
          <p:nvPr/>
        </p:nvSpPr>
        <p:spPr>
          <a:xfrm>
            <a:off x="-396720" y="40464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Протоколи муніципальної інспекції за видами правопорушень 2022 рі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Всього - 5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Object 2"/>
          <p:cNvGraphicFramePr/>
          <p:nvPr/>
        </p:nvGraphicFramePr>
        <p:xfrm>
          <a:off x="0" y="1020600"/>
          <a:ext cx="9302760" cy="583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20600"/>
                    <a:ext cx="9302760" cy="583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Rectangle 3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Приписи муніципальної інспекції за видами правопорушень за 2022 рі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Всього - 17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3"/>
          <p:cNvSpPr/>
          <p:nvPr/>
        </p:nvSpPr>
        <p:spPr>
          <a:xfrm>
            <a:off x="468360" y="2276640"/>
            <a:ext cx="82296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1"/>
          <p:cNvSpPr/>
          <p:nvPr/>
        </p:nvSpPr>
        <p:spPr>
          <a:xfrm>
            <a:off x="539640" y="765000"/>
            <a:ext cx="719928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486113"/>
                </a:solidFill>
                <a:latin typeface="Comic Sans MS"/>
                <a:ea typeface="Times New Roman"/>
              </a:rPr>
              <a:t>Показники діяльності муніципальної інспекції у 2022 році у сфері паркуванн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86113"/>
                </a:solidFill>
                <a:latin typeface="Times New Roman"/>
                <a:ea typeface="Times New Roman"/>
              </a:rPr>
              <a:t>- </a:t>
            </a:r>
            <a:r>
              <a:rPr b="1" i="1" lang="uk-UA" sz="2000" spc="-1" strike="noStrike">
                <a:solidFill>
                  <a:srgbClr val="486113"/>
                </a:solidFill>
                <a:latin typeface="Times New Roman"/>
                <a:ea typeface="Times New Roman"/>
              </a:rPr>
              <a:t>зафіксовано порушень Правил дорожнього руху в частині зупинки, стоянки транспортних засобів – 2055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86113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486113"/>
                </a:solidFill>
                <a:latin typeface="Times New Roman"/>
                <a:ea typeface="Times New Roman"/>
              </a:rPr>
              <a:t>направлено постанов про накладення адміністративних стягнень для виконання – 5717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86113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486113"/>
                </a:solidFill>
                <a:latin typeface="Times New Roman"/>
                <a:ea typeface="Times New Roman"/>
              </a:rPr>
              <a:t>передано постанов про накладення адміністративних стягнень до державної виконавчої служби для примусового їх виконання – 302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86113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08:03:18Z</dcterms:created>
  <dc:creator>Гайова</dc:creator>
  <dc:description/>
  <dc:language>en-US</dc:language>
  <cp:lastModifiedBy>user</cp:lastModifiedBy>
  <cp:lastPrinted>2018-02-09T07:23:27Z</cp:lastPrinted>
  <dcterms:modified xsi:type="dcterms:W3CDTF">2023-01-16T09:27:16Z</dcterms:modified>
  <cp:revision>224</cp:revision>
  <dc:subject/>
  <dc:title>Слайд 1</dc:title>
</cp:coreProperties>
</file>