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F5C-B098-469F-813A-2D5AD87A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C0C-3CEC-422C-BFB1-BD8BDF93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A60-CA24-498C-84CC-89BE4F7F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7E4-AFA8-4879-B290-4FF70E27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FF22-660C-4FE6-BB88-2CC043ED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1395-8713-4DA3-8C65-F0DF45A5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1E27-5368-4523-874A-E1785251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6568-3E50-4134-9EEA-9D2DF948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0FFD-F207-4EA4-90D2-9B483DD9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1705-F90E-433C-B7D6-8A21A4E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4916-8525-4FEB-AA04-B4545597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345-E3EC-47E1-980D-65C2CA1F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13F6-7F00-4E6A-BDB5-8CCD555F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5DB3-0127-44F3-9FF2-38CBC8D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C16A-92CF-4D29-908D-33FE0533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CF95-37DA-40DD-B826-2E749D03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0F06-3C2F-4755-857E-77286E51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F45C-8317-4768-A42B-FF4D4824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D262-B4EF-4AC9-B725-0E4DFE14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3A4F-9D8E-4177-9A53-06800346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CFA4-7680-4A1A-B8F6-B95E8FF7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341D-2218-469F-A37B-8B7CC515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DEF-4BBB-44ED-B975-12977258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EE05-9054-43BA-9B05-505974D4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00B8-FB4D-4055-B61D-6C23165C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8B62-F8DD-4C08-9FE5-1F8746BB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2081-A404-4535-B22B-C921AD0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5064-261F-4F15-A459-C5998FB9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1AFB-4923-4C7B-B0BD-B205959F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443B-7AEB-4B62-86DD-B3E13D78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4EF0-1202-4521-AF89-79F2AB7A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68EF-172B-4240-B602-C8E1357A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3D18C-9B21-4B62-BA9B-DB40BCDF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223-6BAD-4A03-85E3-109B300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2B3B-A453-42CB-B9CE-898AE6AD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76852-6D20-4CE5-B90C-C2BDACF3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BE52A-DB09-4F4E-B1BB-1D28289E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1C17-415E-48E5-BDEE-DACCE6F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6270-E8E7-4F48-897A-5207E09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58EF-6359-43D0-BD14-7B2BF81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E934-5158-4853-A50C-5C10A28A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FD67-5AAE-4B71-BB66-A285F214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26A5-3578-4754-9DF5-167BB705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88A-DC42-4FDA-BB8E-3D61D03E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4E9-CD22-4E90-B1C0-46ADEA06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F78-B3BC-4EA3-B099-35FF28CE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FEF-0675-487B-9347-0D9E831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C97-2062-4E40-863B-CD7ADB43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A8C0-84B0-4230-8B5A-B38FD9C6A50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D4A5-FDB7-416A-AA2C-02555D20E50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16CC-0E2B-459A-8CBF-D5B2818DB97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DC82-68A9-4343-A602-1834EDF1F5D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віт про ро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Муніципальної інспек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Житомирської міської ра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а 2023 рі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395280" y="112536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До скла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муніципальної інспекції вход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c911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Сектор з питань благоустр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2. Сектор контролю за паркуван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3. Сектор підготовки адміністративних постан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395280" y="54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Завдання інспекції у сфері благоустр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58920" y="1229760"/>
            <a:ext cx="6984720" cy="49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-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за дотриманням діючого законодавства про благоустрій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 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населених пункт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в сфері незаконної торгівлі на вулицях міста, в тому числі незаконної торгівлі з рук у невстановлених для цього місцях, в межах повноваж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проведення роз’яснювальних та інформаційних заходів з метою </a:t>
            </a:r>
            <a:r>
              <a:rPr b="1" i="1" lang="ru-RU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творення умов для реалізації прав та виконання обов’язків суб’єктами  у  сфері  благоустрою  населених  пунктів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профілактичних заходів з метою запобігання правопорушенням в сфері благоустрою, торгівлі, зовнішньої реклами тощо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контролю за виданими паспортами прив’язки на тимчасові споруди відповідності умовам видачі та схемі розміщення тимчасової споруд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організація виконання рішень Житомирської міської ради, її виконавчого комітету, направлених на виникнення, зміну або припинення прав та обов’язків суб’єктів господарювання та фізичних осіб в сфері благоустрою міста, зовнішньої реклами, незаконної торгівлі в межах повноважень тощ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надання консультативної допомоги юридичним та фізичним особам в межах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розгляду звернень громадян та прийом громадян з питань, що відносяться до повноважень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61128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Завдання у сфері парку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6720" y="1185840"/>
            <a:ext cx="6912000" cy="47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контроль за дотриманням законодавства в сфері паркування транспортних засобів та їх тимчасового затримання у м. Житомирі (Правил паркування транспортних засобів, Правил дорожнього руху та інших нормативно-правових актів, що регулюють сферу паркування транспортних засобі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оведення профілактичних заходів щодо недопущення  вчинення правопорушень в сфері паркування транспортних засоб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тягнення винних осіб до відповідальності за порушення законодавства в сфері паркування транспортних засобів у м. Житомир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розробка та внесення пропозицій щодо формування державної політики з питань контролю за дотримання законодавства про організацію паркування транспортних засобів і безпеки дорожнього рух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кладання постанов про адміністративні правопорушення щодо порушень, розгляд яких належить до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фіксування правопорушень та прийняття рішень щодо притягнення до адміністративної відповідальності осіб, які вчиняють правопорушення в сфері паркування транспортних засобів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"/>
          <p:cNvSpPr/>
          <p:nvPr/>
        </p:nvSpPr>
        <p:spPr>
          <a:xfrm>
            <a:off x="324000" y="404640"/>
            <a:ext cx="71276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Показники діяльності муніципальної інспекції у 2023 роц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йнято документів (заяви, скарги, листи, повідомлення) – 3353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Зареєстровано вихідних документів інспекції  - 10795, в тому числ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– 607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для примусового виконання – 36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2"/>
          <p:cNvGraphicFramePr/>
          <p:nvPr/>
        </p:nvGraphicFramePr>
        <p:xfrm>
          <a:off x="0" y="1217520"/>
          <a:ext cx="9290160" cy="58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7520"/>
                    <a:ext cx="929016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3"/>
          <p:cNvSpPr/>
          <p:nvPr/>
        </p:nvSpPr>
        <p:spPr>
          <a:xfrm>
            <a:off x="-39672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ротоколи муніципальної інспекції за видами правопорушень 2023 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сього - 10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1020600"/>
          <a:ext cx="9302760" cy="583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0600"/>
                    <a:ext cx="930276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иписи муніципальної інспекції за видами правопорушень за 2023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сього - 25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539640" y="765000"/>
            <a:ext cx="7199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Показники діяльності муніципальної інспекції у 2023 році у сфері парк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- </a:t>
            </a: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зафіксовано порушень Правил дорожнього руху в частині зупинки, стоянки транспортних засобів більше 20тися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направлено постанов про накладення адміністративних стягнень для виконання – 607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передано постанов про накладення адміністративних стягнень до державної виконавчої служби для примусового їх виконання – 363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8:03:18Z</dcterms:created>
  <dc:creator>Гайова</dc:creator>
  <dc:description/>
  <dc:language>en-US</dc:language>
  <cp:lastModifiedBy>user</cp:lastModifiedBy>
  <cp:lastPrinted>2024-07-30T08:52:20Z</cp:lastPrinted>
  <dcterms:modified xsi:type="dcterms:W3CDTF">2024-07-30T12:42:03Z</dcterms:modified>
  <cp:revision>234</cp:revision>
  <dc:subject/>
  <dc:title>Слайд 1</dc:title>
</cp:coreProperties>
</file>